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CF8-5B5E-4254-B668-CF6B41A3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2EB-5759-4865-8649-24D973EE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698-7D35-4FF5-8A97-158949AF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08A-41E9-4F63-ACFC-F6F3827F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165D-0405-49DB-83EF-B9AE31A6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F4A1-8B07-4F23-949E-E4FAC088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81E7-D31B-4885-9A52-0F2F76FC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DE94-C5FC-4A44-842A-2BBB5E8C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C895-438F-4DC6-80F3-C1A76791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7A2E-8B83-422C-B53C-96EB8621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54C6-E9B0-4C24-9D26-0E6F5CF4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2C8-E97E-4504-BE8F-0B85C1DD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A41D-51FA-4A58-AE58-DEA4D418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E39C-3CB3-4549-84FC-EA1ADEF5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B9F8-8B84-4C98-9474-F71E8252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3E55-B078-451A-9A8D-3057C827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4CD5-9319-432B-A750-25EC757C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535-B71D-419D-8B01-262CBB60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375-D783-4315-ADDD-0D42AC79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781-5476-450D-B2D8-C3ED6A09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8E1-7405-455F-A777-18507E26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44D-1D02-4446-BAFD-3CC26FAC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175-43FE-46DD-8D69-86B04A95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58F-E366-4737-A8F0-36FEE7DC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889F-F675-4B22-A4CC-243286188C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9D55-7060-42D8-BDEB-C44CAADC6B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sgram.narod.ru/" TargetMode="External"/><Relationship Id="rId3" Type="http://schemas.openxmlformats.org/officeDocument/2006/relationships/hyperlink" Target="http://www.orfo.ru/" TargetMode="External"/><Relationship Id="rId4" Type="http://schemas.openxmlformats.org/officeDocument/2006/relationships/hyperlink" Target="http://www.orfo.ru/" TargetMode="External"/><Relationship Id="rId5" Type="http://schemas.openxmlformats.org/officeDocument/2006/relationships/hyperlink" Target="http://www.hi-edu.ru/" TargetMode="External"/><Relationship Id="rId6" Type="http://schemas.openxmlformats.org/officeDocument/2006/relationships/hyperlink" Target="http://www.hi-edu.ru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9920"/>
            <a:ext cx="77724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СЛОЖНОЕ  ПРЕДЛОЖЕН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ыполнила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долинская Тан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342 груп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astellar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Сравните предлож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 из-за сильного дождя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, потому что шел сильный дождь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0" y="5562720"/>
            <a:ext cx="399096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В чем их различи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ОСНОВОПОЛАГАЮЩИЙ  ВОПРО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2544480"/>
            <a:ext cx="8001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БЫТЬ  ГРАМОТНЫМ –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                </a:t>
            </a: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ЭТО  ПРОСТО?!..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ПРОБЛЕМНЫЕ  ВОПРО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ими  бывают  предложен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овы различия между вид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й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Одинаковы ли правила пунктуации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я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8600" y="422280"/>
            <a:ext cx="7986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Этапы проведения проек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2255760"/>
            <a:ext cx="80010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1) Выбор и формулировка тем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2) Поиск информ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3) Самостоятельная работа учащих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4) Защита проек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Как будут представлены результат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Эсс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Творческие презент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Букле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Информационные  ресурс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Учебники по русскому языку (9 кл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2"/>
              </a:rPr>
              <a:t>http://rusgram.narod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4"/>
              </a:rPr>
              <a:t>://www.orfo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336699"/>
                </a:solidFill>
                <a:uFillTx/>
                <a:latin typeface="Castellar"/>
                <a:hlinkClick r:id="rId6"/>
              </a:rPr>
              <a:t>://www.hi-edu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5:27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